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D929-94F8-43B3-85B6-842E8E3C4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9630-C198-41F6-98AE-5CAE0A383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2BD8-78C2-4918-8C59-0B77065FA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8A66-290C-4E16-8FFE-AD7A2493E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5287-8DD0-42B2-8105-8F63358BB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C1BD-4FBB-41C1-A089-04CEE8AB0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A43D-F52F-4B6E-BC29-B3FF6827A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CC4A-9E48-4017-ACE7-68BFCAEB0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7B29-41B9-4C0B-AC47-F102F5C30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D069-99C0-4EFD-9880-752DA294C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2483-C4FD-4401-9E26-BF0F3B09F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54DD-0161-45C8-9DFB-B405BD150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CB261-A969-41B7-95C3-98451E98BE99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Mis documentos\Sin título-1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Mis documentos\Sin título-1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Mis documentos\Sin título-11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Mis documentos\Sin título-12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Mis documentos\Sin título-2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Mis documentos\Sin título-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Mis documentos\Sin título-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Mis documentos\Sin título-5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Mis documentos\Sin título-6.gif"/>
          <p:cNvPicPr/>
          <p:nvPr/>
        </p:nvPicPr>
        <p:blipFill>
          <a:blip r:embed="rId1"/>
          <a:stretch/>
        </p:blipFill>
        <p:spPr>
          <a:xfrm>
            <a:off x="-228600" y="0"/>
            <a:ext cx="93726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Mis documentos\Sin título-7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Mis documentos\Sin título-8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Mis documentos\Sin título-9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6:53:31Z</dcterms:created>
  <dc:creator>Grupo Editorial</dc:creator>
  <dc:description/>
  <dc:language>en-US</dc:language>
  <cp:lastModifiedBy>TORRES</cp:lastModifiedBy>
  <dcterms:modified xsi:type="dcterms:W3CDTF">2010-12-19T21:43:50Z</dcterms:modified>
  <cp:revision>1</cp:revision>
  <dc:subject/>
  <dc:title>Sin título de diapositiva</dc:title>
</cp:coreProperties>
</file>